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5335588" cy="8002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4801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66760" y="4296600"/>
            <a:ext cx="4801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6676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272700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890360" y="187236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513960" y="187236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66760" y="429660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1890360" y="429660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3513960" y="429660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66760" y="1872360"/>
            <a:ext cx="480132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480132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66760" y="318960"/>
            <a:ext cx="4801320" cy="61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6676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2700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66760" y="4296600"/>
            <a:ext cx="4801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5920" y="612720"/>
            <a:ext cx="47512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700" spc="-1" strike="noStrike">
                <a:solidFill>
                  <a:srgbClr val="969696"/>
                </a:solidFill>
                <a:latin typeface="돋움"/>
                <a:ea typeface="돋움"/>
              </a:rPr>
              <a:t>●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DIGITAL KEY TELEPHONE SYSTEM / SLT User Guide                      LDK-300 / GDK-162/100/FPII/16/20W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800280"/>
            <a:ext cx="4495680" cy="237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66760" y="1872360"/>
            <a:ext cx="480132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1969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  <a:tab algn="l" pos="9667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888840" indent="-1774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  <a:tab algn="l" pos="96678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244520" indent="-177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  <a:tab algn="l" pos="9667800"/>
                <a:tab algn="l" pos="10128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177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  <a:tab algn="l" pos="9667800"/>
                <a:tab algn="l" pos="10128240"/>
                <a:tab algn="l" pos="10588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177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177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2608200" y="1050840"/>
            <a:ext cx="2463840" cy="61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3333cc"/>
                </a:solidFill>
                <a:latin typeface="Arial"/>
              </a:rPr>
              <a:t>Answering an Waiting C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3333cc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3333cc"/>
                </a:solidFill>
                <a:latin typeface="Arial"/>
              </a:rPr>
              <a:t>You will receive warning tone in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3333cc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3333cc"/>
                </a:solidFill>
                <a:latin typeface="Arial"/>
              </a:rPr>
              <a:t>Hang up the present call to take a new on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Making a Screened Transf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While connected to an outside line, pres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hook switch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the desired extension number and wait to b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answered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Announce the call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Hang up to complete call transfer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Making an Unscreened Transf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While connected to an outside line, pres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hook switch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the desired extension numb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Hang up to complete call transfer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Last Number Red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5 2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or 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5 5 2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(LDK-300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Storing Station Speed Dial Numb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5 5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or 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5 5 5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(LDK-300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speed dial number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(000~099 in LDK-300, 00~19 in GDK-162/100/FPII,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01~20 in GDK-16/20W)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speed dial number you wish to stor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Press hook switch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You will hear confirmation tone and hang up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Using Station Speed Dial Numb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5 8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or 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5 5 8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(LDK-300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the desired speed dial number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(000~099 in LDK-300, 00~19 in GDK-162/100/FPII,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01~20 in GDK-16/20W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Group Call Pick-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When hearing an unattended phone ringing in your area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6 6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or 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5 6 6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(LDK-300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You will be connected to an incoming extension o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outside line call. (You should be in the same pick-u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group.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Establishing a Conferen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The system allows you to set up a 3-way conferenc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Call the desired party. (outside or internal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Press hook switch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the internal extension number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When the other party answers, press hook switc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twice in 2 seconds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(All three parties are now connected.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380880" y="1050840"/>
            <a:ext cx="2371680" cy="68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Placing an Outside C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(In the following countries, dial 0 to access C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line : Finland/Brazil/Norway/Netherlands/Belgium/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Denmark/Spain/Italy)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the desired number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Placing an Intercom C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intercom number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Placing an Outside Call on Hold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(LDK-300, GDK-16/20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While connected to an extension call, pres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hook switch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5 9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(GDK-16/20W) or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5 6 0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(LDK-300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Retrieving a Held Outside C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8 #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ko-KR" sz="700" spc="-1" strike="noStrike" u="sng">
                <a:solidFill>
                  <a:srgbClr val="000000"/>
                </a:solidFill>
                <a:uFillTx/>
                <a:latin typeface="Arial"/>
              </a:rPr>
              <a:t>CO line number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300: 001~200,  162: 01~96, 100: 01~48,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FPII: 01~34, 16: 1~6, 20W: 1~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On SLT, you can dial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8 #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again in case you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on't remember the held CO number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In LDK-300, you can dial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8 *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in case you don’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remember the held CO number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Placing an Outside Call via CO Group Acc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ko-KR" sz="700" spc="-1" strike="noStrike" u="sng">
                <a:solidFill>
                  <a:srgbClr val="000000"/>
                </a:solidFill>
                <a:uFillTx/>
                <a:latin typeface="Arial"/>
              </a:rPr>
              <a:t>CO group number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300: 01~72,  162: 01~48, 100: 01~24,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FPII: 01~09, 16/20W: 1~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the desired number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Placing an Outside Call via CO Individual Acc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8 8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ko-KR" sz="700" spc="-1" strike="noStrike" u="sng">
                <a:solidFill>
                  <a:srgbClr val="000000"/>
                </a:solidFill>
                <a:uFillTx/>
                <a:latin typeface="Arial"/>
              </a:rPr>
              <a:t>CO line number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300: 001~200,  162: 01~96, 100: 01~48,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FPII: 01~34, 16: 1~6, 20W: 1~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the desired number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Re-directing an Incoming Call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ko-KR" sz="700" spc="-1" strike="noStrike">
                <a:solidFill>
                  <a:srgbClr val="000000"/>
                </a:solidFill>
                <a:latin typeface="돋움"/>
                <a:ea typeface="돋움"/>
              </a:rPr>
              <a:t>＊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(Call Pick-up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When you hear a phone ringing in your area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the extension number of the ringing phon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Call Wait (Camp-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After receiving intercom busy tone, dial * 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(In LDK-300, GDK-16/20W, Hook flash and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Camp-on tone is heard in the called stat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When called party answers, talk or hang up to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transfer the call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91040" y="793800"/>
            <a:ext cx="2432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T User Guide for LDK/GDK 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575080" y="7242120"/>
            <a:ext cx="2306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Note : The feature which is marked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＊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is not available in GDK-16/20W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548080" y="75517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54040" y="4556160"/>
            <a:ext cx="2127240" cy="647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803680" y="6443640"/>
            <a:ext cx="2133360" cy="10987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03680" y="4994280"/>
            <a:ext cx="2133360" cy="1403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91040" y="793800"/>
            <a:ext cx="2432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T User Guide for LDK/GDK 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60520" y="3711600"/>
            <a:ext cx="2127240" cy="743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3120" y="2556000"/>
            <a:ext cx="2114640" cy="8301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680560" y="1050840"/>
            <a:ext cx="2350800" cy="65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Do Not Disturb (DN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5 3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or 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5 5 3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(LDK-300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Place the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To cancel Do Not Disturb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5 3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or 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5 9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. (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5 9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is not available in GDK-16/20W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5 5 3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5 5 9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in LDK-3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Hang up.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Shuttle C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An extension user engaged in an internal o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external call, should briefly press hook switch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t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hold a call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The holding party hears music on hold. (If equipped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the second number of another internal o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external call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When the second call is connected, the extension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user may alternate the call between holding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parties by pressing hook switch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Then, you may make a conference by pressing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hook switch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Universal Night Ans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When hearing an incoming signal on other phone o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night bell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UNA Access Code 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6 9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or 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5 6 9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(LDK-300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You will be connected to an incoming call if it w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programmed as an UNA lin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Pag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the desired page zone number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Give your messag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Hang up to complete paging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Page Zon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Call all zones    : 4 9  (# 0 in GDK-16/20W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Call all internal zones : 4 3 (# 4 in GDK-16/20W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Internal zone 1 : 4 0 1 (# 1 in GDK-16/20W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Internal zone 2 : 4 0 2 (# 2 in GDK-16/20W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:                    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Internal zone  xx : 4 </a:t>
            </a:r>
            <a:r>
              <a:rPr b="0" lang="ko-KR" sz="700" spc="-1" strike="noStrike" u="sng">
                <a:solidFill>
                  <a:srgbClr val="000000"/>
                </a:solidFill>
                <a:uFillTx/>
                <a:latin typeface="Arial"/>
              </a:rPr>
              <a:t>x x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GDK-162 : 2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GDK-100 : 15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GDK-FPII: 0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External zone 1 : 4 6 (GDK-162/100/FPII on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External zone 2 : 4 7 (GDK-162/100 on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Call all external zones : 4 8 (# 3 in GDK-16/20W)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Page Zones in LDK-3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Call all zones             :  5 4 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Call all internal zones : 5 4 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Internal zone 1           : 5 0 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3333cc"/>
                </a:solidFill>
                <a:latin typeface="Arial"/>
              </a:rPr>
              <a:t>Internal zone 35         : 5 3 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External zone 1          : 5 4 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External zone 3          : 5 4 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Call all external zones : 5 4 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066680"/>
            <a:ext cx="2549520" cy="60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Message Wai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the desired extension number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No reply from a key station or extension busy tone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from a SLT key stat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Press hook switch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5 6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or 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5 5 6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(LDK-300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Hang up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Call Forw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5 4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or 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5 5 4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(LDK-300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the desired call forward number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1 - Unconditional,          2 - Busy call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3 - No answer calls,      4 - Busy/no answer call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5 - Station off-net          # - Cancel previous forwar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6 - Incoming outside line to off-net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7 - DVU forward for no answer-1 (forward after 4sec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8 - DVU forward for no answer-2 (forward aft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predefined tim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9 - DVU forward for busy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*. </a:t>
            </a:r>
            <a:r>
              <a:rPr b="0" i="1" lang="ko-KR" sz="700" spc="-1" strike="noStrike">
                <a:solidFill>
                  <a:srgbClr val="000000"/>
                </a:solidFill>
                <a:latin typeface="Arial"/>
              </a:rPr>
              <a:t>In GDK-16/20W,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only 1DVIB Forward is avail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5 4 + 7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: DVU forward for no answer/bus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*. </a:t>
            </a:r>
            <a:r>
              <a:rPr b="0" i="1" lang="ko-KR" sz="700" spc="-1" strike="noStrike">
                <a:solidFill>
                  <a:srgbClr val="000000"/>
                </a:solidFill>
                <a:latin typeface="Arial"/>
              </a:rPr>
              <a:t>In LDK-300,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1 - Unconditional,          2 - Busy call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3 - No answer calls,      4 - Busy/no answer call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5 - Station off-net, uncondition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6 - Station off-net, no answ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7 - Incoming outside line off-net (ATD on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To make Call forward to VMIB, press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key aft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ing call forward </a:t>
            </a:r>
            <a:r>
              <a:rPr b="0" lang="ko-KR" sz="700" spc="-1" strike="noStrike">
                <a:solidFill>
                  <a:srgbClr val="3333cc"/>
                </a:solidFill>
                <a:latin typeface="Arial"/>
              </a:rPr>
              <a:t>type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(1~4)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the station number to forward incoming calls to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GDK-162  : 100~291 / 620~64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GDK-100  : 100~235 / 620~63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GDK-FPII : 100~177 / 620~62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GDK-16    : 100~115 / 61~6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GDK-20W : 100~133 / 61~6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LDK-300   : 100~399 / 620~66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Hang up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To cancel Call Forward, lift handset and dial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5 4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(In LDK-300, dial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5 5 4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. Or, dial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5 5 9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For Follow Me call forward,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ko-KR" sz="700" spc="-1" strike="noStrike">
                <a:solidFill>
                  <a:srgbClr val="000000"/>
                </a:solidFill>
                <a:latin typeface="돋움"/>
                <a:ea typeface="돋움"/>
              </a:rPr>
              <a:t>＊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Go to the forwarding station and 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5 4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or 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5 5 4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(LDK-300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the station number that calls are to be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forwarded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the authorization code of forwarded extens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(The authorization code should be registered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before "Follow Me" Call Forward can be set.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the extension number that will receive the call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Hang up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48080" y="75517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5760" y="6424560"/>
            <a:ext cx="2165040" cy="927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93120" y="1055520"/>
            <a:ext cx="2385000" cy="65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Meet Me Pag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When hearing a paging announcement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4 4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(LDK-300: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5 4 4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,  GDK-16/20W: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# 6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Returning Call to Host Syst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If your LG GDK is connected to another system, you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can use this feature to transfer a call back to an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extension on the other system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(Your installer will tell you need the feature.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While connected to an extension call, press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hook switch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5 1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or 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5 5 1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(LDK-300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Hearing new dial tone from the other system, dial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the extension number on the required system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When the station answers, (See Screened Transfer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speak or hang up (See Unscreened Transfer) to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transfer the call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Queuing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ko-KR" sz="700" spc="-1" strike="noStrike">
                <a:solidFill>
                  <a:srgbClr val="000000"/>
                </a:solidFill>
                <a:latin typeface="돋움"/>
                <a:ea typeface="돋움"/>
              </a:rPr>
              <a:t>＊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If you access a busy line, you may request the system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to place you on hold, until the next line becomes id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Press hook switch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5 6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or 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5 5 6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(LDK-300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You will hear confirmation tone when the call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accepted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Hang up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Call Park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ko-KR" sz="700" spc="-1" strike="noStrike">
                <a:solidFill>
                  <a:srgbClr val="000000"/>
                </a:solidFill>
                <a:latin typeface="돋움"/>
                <a:ea typeface="돋움"/>
              </a:rPr>
              <a:t>＊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While connected to an outside call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Press hook switch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0" lang="ko-KR" sz="700" spc="-1" strike="noStrike" u="sng">
                <a:solidFill>
                  <a:srgbClr val="000000"/>
                </a:solidFill>
                <a:uFillTx/>
                <a:latin typeface="Arial"/>
              </a:rPr>
              <a:t>parking location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LDK-300 : 601~61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GDK-162 : 601~61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GDK-100 : 601~610    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GDK-FPII: 601~60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Hang up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To retrieve a parked call, dial parking locat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Preselected Messages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ko-KR" sz="700" spc="-1" strike="noStrike">
                <a:solidFill>
                  <a:srgbClr val="000000"/>
                </a:solidFill>
                <a:latin typeface="돋움"/>
                <a:ea typeface="돋움"/>
              </a:rPr>
              <a:t>＊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You can choose a preselected message to be displayed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on the LCD of the phone calling your stat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ko-KR" sz="700" spc="-1" strike="noStrike">
                <a:solidFill>
                  <a:srgbClr val="3333cc"/>
                </a:solidFill>
                <a:latin typeface="Arial"/>
              </a:rPr>
              <a:t>5 6 3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(LDK-300).  (Program Entry Cod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7 7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700" spc="-1" strike="noStrike">
                <a:solidFill>
                  <a:srgbClr val="3333cc"/>
                </a:solidFill>
                <a:latin typeface="Arial"/>
              </a:rPr>
              <a:t>5 1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(LDK-300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In LDK-300, make hook-flash and dial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5 1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the following number to leave your messag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(01~1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600" spc="-1" strike="noStrike">
                <a:solidFill>
                  <a:srgbClr val="000000"/>
                </a:solidFill>
                <a:latin typeface="Arial"/>
              </a:rPr>
              <a:t>Dial 01 + (Time) LUNCH, RETURN HH:M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600" spc="-1" strike="noStrike">
                <a:solidFill>
                  <a:srgbClr val="000000"/>
                </a:solidFill>
                <a:latin typeface="Arial"/>
              </a:rPr>
              <a:t>Dial 02 + (Date) ON VACATION, RETURN AT MM: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600" spc="-1" strike="noStrike">
                <a:solidFill>
                  <a:srgbClr val="000000"/>
                </a:solidFill>
                <a:latin typeface="Arial"/>
              </a:rPr>
              <a:t>Dial 03 + (Time) OUT OF OFFICE RETURN TIME HH:M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600" spc="-1" strike="noStrike">
                <a:solidFill>
                  <a:srgbClr val="000000"/>
                </a:solidFill>
                <a:latin typeface="Arial"/>
              </a:rPr>
              <a:t>Dial 04 + (Date) OUT OF OFFICE RETURN MM: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600" spc="-1" strike="noStrike">
                <a:solidFill>
                  <a:srgbClr val="000000"/>
                </a:solidFill>
                <a:latin typeface="Arial"/>
              </a:rPr>
              <a:t>Dial 05               OUT OF OFFICE RETURN UNKNOW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600" spc="-1" strike="noStrike">
                <a:solidFill>
                  <a:srgbClr val="000000"/>
                </a:solidFill>
                <a:latin typeface="Arial"/>
              </a:rPr>
              <a:t>Dial 06 + (External no.) CALL XX.... (17 digits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600" spc="-1" strike="noStrike">
                <a:solidFill>
                  <a:srgbClr val="000000"/>
                </a:solidFill>
                <a:latin typeface="Arial"/>
              </a:rPr>
              <a:t>Dial 07 + (Extension you can be called) IN OFFICE, STA XXXX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600" spc="-1" strike="noStrike">
                <a:solidFill>
                  <a:srgbClr val="000000"/>
                </a:solidFill>
                <a:latin typeface="Arial"/>
              </a:rPr>
              <a:t>Dial 08 + (Time) IN A MEETING, RETURN TIME HH:M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600" spc="-1" strike="noStrike">
                <a:solidFill>
                  <a:srgbClr val="000000"/>
                </a:solidFill>
                <a:latin typeface="Arial"/>
              </a:rPr>
              <a:t>Dial 09                AT HO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600" spc="-1" strike="noStrike">
                <a:solidFill>
                  <a:srgbClr val="000000"/>
                </a:solidFill>
                <a:latin typeface="Arial"/>
              </a:rPr>
              <a:t>Dial 10                AT BRANCH OFFICE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Press hook switch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Hang up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71920" y="1069920"/>
            <a:ext cx="2357280" cy="69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To erase a preselected message, lift handset and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7 7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In LDK-300, make hook-flash and dial </a:t>
            </a:r>
            <a:r>
              <a:rPr b="1" lang="ko-KR" sz="700" spc="-1" strike="noStrike">
                <a:solidFill>
                  <a:srgbClr val="3333cc"/>
                </a:solidFill>
                <a:latin typeface="Arial"/>
              </a:rPr>
              <a:t>5 6 3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5 1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Press hook switch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Hang up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Voice Announcemen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ko-KR" sz="700" spc="-1" strike="noStrike">
                <a:solidFill>
                  <a:srgbClr val="000000"/>
                </a:solidFill>
                <a:latin typeface="Arial"/>
              </a:rPr>
              <a:t>Time Promp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6 7 1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You'll hear time prompt, "Time is 00:00."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ko-KR" sz="700" spc="-1" strike="noStrike">
                <a:solidFill>
                  <a:srgbClr val="000000"/>
                </a:solidFill>
                <a:latin typeface="Arial"/>
              </a:rPr>
              <a:t>Date Promp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6 7 2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You will hear date prompt, "Date is July, 20th."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ko-KR" sz="700" spc="-1" strike="noStrike">
                <a:solidFill>
                  <a:srgbClr val="000000"/>
                </a:solidFill>
                <a:latin typeface="Arial"/>
              </a:rPr>
              <a:t>Extension Number Promp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6 7 3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You'll hear extension number prompt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"This extension is XXXX.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ko-KR" sz="700" spc="-1" strike="noStrike">
                <a:solidFill>
                  <a:srgbClr val="000000"/>
                </a:solidFill>
                <a:latin typeface="Arial"/>
              </a:rPr>
              <a:t>Recording Your Message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6 7 4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(for No Answer Forward) or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6 7 #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(fo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Busy Forward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Record your messag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Place the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ko-KR" sz="700" spc="-1" strike="noStrike">
                <a:solidFill>
                  <a:srgbClr val="000000"/>
                </a:solidFill>
                <a:latin typeface="Arial"/>
              </a:rPr>
              <a:t>Playing Back Your Message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6 7 6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(for No Answer Forward) or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6 7 0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(fo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Busy Forward). (Your recorded message is heard.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ko-KR" sz="700" spc="-1" strike="noStrike">
                <a:solidFill>
                  <a:srgbClr val="000000"/>
                </a:solidFill>
                <a:latin typeface="Arial"/>
              </a:rPr>
              <a:t>Deleting Your Message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6 7 5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(for No Answer Forward) or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6 7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＊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(fo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Busy Forward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Hang up. (Your message has now been deleted.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ko-KR" sz="700" spc="-1" strike="noStrike">
                <a:solidFill>
                  <a:srgbClr val="000000"/>
                </a:solidFill>
                <a:latin typeface="Arial"/>
              </a:rPr>
              <a:t>Extension Status Promp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6 7 7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You'll hear items listed below. (a~h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a)  Extension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b)  Handsfree/Tone/Privac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c)  Listed messa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)  Wake-up time AM or PM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e)  Do Not Disturb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f)   Forwarded to extension 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g)  Forwarded to speed bin 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h)  Locked (Temporary Class of Service Charg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i)  Class of Service 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ko-KR" sz="700" spc="-1" strike="noStrike">
                <a:solidFill>
                  <a:srgbClr val="000000"/>
                </a:solidFill>
                <a:latin typeface="Arial"/>
              </a:rPr>
              <a:t>Recording Paging Message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6 7 8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Record your paging messag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Replace the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ko-KR" sz="700" spc="-1" strike="noStrike">
                <a:solidFill>
                  <a:srgbClr val="000000"/>
                </a:solidFill>
                <a:latin typeface="Arial"/>
              </a:rPr>
              <a:t>Playing Back Paging Message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6 7 9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ko-KR" sz="700" spc="-1" strike="noStrike">
                <a:solidFill>
                  <a:srgbClr val="000000"/>
                </a:solidFill>
                <a:latin typeface="Arial"/>
              </a:rPr>
              <a:t>To hear the recorded Message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5  7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The recorded message is played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Hang up. (The message is deleted automatically.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91040" y="793800"/>
            <a:ext cx="2432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T User Guide for LDK/GDK 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48080" y="75517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96720" y="1058760"/>
            <a:ext cx="2211480" cy="62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ko-KR" sz="700" spc="-1" strike="noStrike">
                <a:solidFill>
                  <a:srgbClr val="000000"/>
                </a:solidFill>
                <a:latin typeface="Arial"/>
              </a:rPr>
              <a:t>To activate Call Forward to DVU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5  4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. (Select DVU forward type for No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answer or Busy.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Hang up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ko-KR" sz="700" spc="-1" strike="noStrike">
                <a:solidFill>
                  <a:srgbClr val="000000"/>
                </a:solidFill>
                <a:latin typeface="Arial"/>
              </a:rPr>
              <a:t>To deactivate Call Forward to DVU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5  4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Hang up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For GDK-16/20W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ko-KR" sz="700" spc="-1" strike="noStrike">
                <a:solidFill>
                  <a:srgbClr val="000000"/>
                </a:solidFill>
                <a:latin typeface="Arial"/>
              </a:rPr>
              <a:t>Recording Your Message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Lift handset.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5 4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+ 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 #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Record your messag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Replace the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ko-KR" sz="700" spc="-1" strike="noStrike">
                <a:solidFill>
                  <a:srgbClr val="000000"/>
                </a:solidFill>
                <a:latin typeface="Arial"/>
              </a:rPr>
              <a:t>Deleting Your Message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  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5 4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+ 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700" spc="-1" strike="noStrike">
                <a:solidFill>
                  <a:srgbClr val="000000"/>
                </a:solidFill>
                <a:latin typeface="돋움"/>
                <a:ea typeface="돋움"/>
              </a:rPr>
              <a:t>＊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Replace the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ko-KR" sz="700" spc="-1" strike="noStrike">
                <a:solidFill>
                  <a:srgbClr val="000000"/>
                </a:solidFill>
                <a:latin typeface="Arial"/>
              </a:rPr>
              <a:t>To hear the recorded Message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5  7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Time &amp; date prompt for the recorded message is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provided then voice message is played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Hang up. (The message is deleted automatically.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For LDK-300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ko-KR" sz="700" spc="-1" strike="noStrike">
                <a:solidFill>
                  <a:srgbClr val="000000"/>
                </a:solidFill>
                <a:latin typeface="Arial"/>
              </a:rPr>
              <a:t>Date &amp; Time Promp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Lift handset.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5 6 3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After hearing confirmation tone, dial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6 2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You'll hear date &amp; time prompt,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" Date is March, 20th and Time is 00:00."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ko-KR" sz="700" spc="-1" strike="noStrike">
                <a:solidFill>
                  <a:srgbClr val="000000"/>
                </a:solidFill>
                <a:latin typeface="Arial"/>
              </a:rPr>
              <a:t>Extension Number Promp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Lift handset.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5 6 3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After hearing confirmation tone, dial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6 3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You'll hear extension number prompt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"This extension is XXXX.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ko-KR" sz="700" spc="-1" strike="noStrike">
                <a:solidFill>
                  <a:srgbClr val="000000"/>
                </a:solidFill>
                <a:latin typeface="Arial"/>
              </a:rPr>
              <a:t>Extension Status Promp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Lift handset.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5 6 3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After hearing confirmation tone, dial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6 4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You'll hear items listed below. (a~h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a)  Extension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3333cc"/>
                </a:solidFill>
                <a:latin typeface="Arial"/>
              </a:rPr>
              <a:t>b)  Intercom Answer Mod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c)  Listed message 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)  Wake-up time XX:XX AM or PM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e)  Do Not Disturb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f)   Forwarded to extension 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g)  Forwarded to speed bin 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h)  Queued CO 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i)   Locked (Temporary Class of Service Charg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j)   COS 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91040" y="793800"/>
            <a:ext cx="2432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T User Guide for LDK/GDK 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709360" y="1058760"/>
            <a:ext cx="2162880" cy="59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ko-KR" sz="700" spc="-1" strike="noStrike">
                <a:solidFill>
                  <a:srgbClr val="000000"/>
                </a:solidFill>
                <a:latin typeface="Arial"/>
              </a:rPr>
              <a:t>Recording Your Message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5 6 3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After hearing confirmation tone, dial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6 1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Record your messag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Place the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ko-KR" sz="700" spc="-1" strike="noStrike">
                <a:solidFill>
                  <a:srgbClr val="000000"/>
                </a:solidFill>
                <a:latin typeface="Arial"/>
              </a:rPr>
              <a:t>Deleting Your Message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5 6 3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After hearing confirmation tone, dial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6 6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ko-KR" sz="700" spc="-1" strike="noStrike">
                <a:solidFill>
                  <a:srgbClr val="000000"/>
                </a:solidFill>
                <a:latin typeface="Arial"/>
              </a:rPr>
              <a:t>Recording Paging Message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5 6 3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After hearing confirmation tone, dial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6 5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Record paging messag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Place the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ko-KR" sz="700" spc="-1" strike="noStrike">
                <a:solidFill>
                  <a:srgbClr val="000000"/>
                </a:solidFill>
                <a:latin typeface="Arial"/>
              </a:rPr>
              <a:t>Deleting Your Message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5 6 3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After hearing confirmation tone, dial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6 6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ko-KR" sz="700" spc="-1" strike="noStrike">
                <a:solidFill>
                  <a:srgbClr val="000000"/>
                </a:solidFill>
                <a:latin typeface="Arial"/>
              </a:rPr>
              <a:t>Deleting Paging Message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5 6 3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After hearing confirmation tone, dial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6 7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ko-KR" sz="700" spc="-1" strike="noStrike">
                <a:solidFill>
                  <a:srgbClr val="000000"/>
                </a:solidFill>
                <a:latin typeface="Arial"/>
              </a:rPr>
              <a:t>To activate Call Forward to VMIB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5 5 4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Call Forward type number (1~4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Hang up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ko-KR" sz="700" spc="-1" strike="noStrike">
                <a:solidFill>
                  <a:srgbClr val="000000"/>
                </a:solidFill>
                <a:latin typeface="Arial"/>
              </a:rPr>
              <a:t>To deactivate Call Forward to VMIB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5 5 4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Hang up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Programming Authorization Code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ko-KR" sz="700" spc="-1" strike="noStrike">
                <a:solidFill>
                  <a:srgbClr val="000000"/>
                </a:solidFill>
                <a:latin typeface="돋움"/>
                <a:ea typeface="돋움"/>
              </a:rPr>
              <a:t>＊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5 6 3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(LDK-300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4 4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3 1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(LDK-300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5 digits as authorization cod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Press hook switch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Programming Your Name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ko-KR" sz="700" spc="-1" strike="noStrike">
                <a:solidFill>
                  <a:srgbClr val="000000"/>
                </a:solidFill>
                <a:latin typeface="돋움"/>
                <a:ea typeface="돋움"/>
              </a:rPr>
              <a:t>＊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5 6 3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(LDK-300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3 0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7 4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(LDK-300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Enter your name using the same codes as thos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of keysets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Press hook switch. (Confirmation tone is heard.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Hang up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48080" y="75517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619360" y="1371600"/>
            <a:ext cx="2319480" cy="41911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9520" y="1065240"/>
            <a:ext cx="2221200" cy="21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ntering an Account Code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700" spc="-1" strike="noStrike">
                <a:solidFill>
                  <a:srgbClr val="000000"/>
                </a:solidFill>
                <a:latin typeface="돋움"/>
                <a:ea typeface="돋움"/>
              </a:rPr>
              <a:t>＊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o identify a call, system provides the user with an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ccount code field in the Call Logging printout b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entering an account code while on an outside call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fter dialing or during a conversation with a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external party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ess hook switch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5 0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5 5 0</a:t>
            </a: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 (LDK-300).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and account cod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(An account code can be up to 12 digits.)</a:t>
            </a:r>
            <a:br>
              <a:rPr sz="700"/>
            </a:b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Press hook switch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ontinue conversation and hang up to finish the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all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andset Off-hook Alarm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700" spc="-1" strike="noStrike">
                <a:solidFill>
                  <a:srgbClr val="000000"/>
                </a:solidFill>
                <a:latin typeface="돋움"/>
                <a:ea typeface="돋움"/>
              </a:rPr>
              <a:t>＊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hould the handset be left off the cradle unattended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or any length of time,  the user will receive a hi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itched signal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o cancel the signal, hang up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91040" y="793800"/>
            <a:ext cx="2432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T User Guide for LDK/GDK 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960" y="1081080"/>
            <a:ext cx="2399040" cy="45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ko-KR" sz="700" spc="-1" strike="noStrike">
                <a:solidFill>
                  <a:srgbClr val="000000"/>
                </a:solidFill>
                <a:latin typeface="Arial"/>
              </a:rPr>
              <a:t>Following features are only available with GDK-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ko-KR" sz="700" spc="-1" strike="noStrike">
                <a:solidFill>
                  <a:srgbClr val="000000"/>
                </a:solidFill>
                <a:latin typeface="Arial"/>
              </a:rPr>
              <a:t>162/100/FPII Hotel S/W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Baby Listening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ko-KR" sz="700" spc="-1" strike="noStrike">
                <a:solidFill>
                  <a:srgbClr val="000000"/>
                </a:solidFill>
                <a:latin typeface="돋움"/>
                <a:ea typeface="돋움"/>
              </a:rPr>
              <a:t>＊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This feature allows a guest to monitor his room from any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other party of the hotel. You can hear the room which is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set baby listening but the room will not be disturbed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ko-KR" sz="700" spc="-1" strike="noStrike">
                <a:solidFill>
                  <a:srgbClr val="000000"/>
                </a:solidFill>
                <a:latin typeface="Arial"/>
              </a:rPr>
              <a:t>To activate baby listening at guest’s room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Lift the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the guest’s own room number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(Confirmation tone is heard.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ko-KR" sz="700" spc="-1" strike="noStrike">
                <a:solidFill>
                  <a:srgbClr val="000000"/>
                </a:solidFill>
                <a:latin typeface="Arial"/>
              </a:rPr>
              <a:t>To cancel baby listening at guest’s room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Replace the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ko-KR" sz="700" spc="-1" strike="noStrike">
                <a:solidFill>
                  <a:srgbClr val="000000"/>
                </a:solidFill>
                <a:latin typeface="Arial"/>
              </a:rPr>
              <a:t>To operate baby listening from any other phone in the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ko-KR" sz="700" spc="-1" strike="noStrike">
                <a:solidFill>
                  <a:srgbClr val="000000"/>
                </a:solidFill>
                <a:latin typeface="Arial"/>
              </a:rPr>
              <a:t>system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Lift the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the guest’s own room number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ND tone will be heard and dial the guest’s own room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number agai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After confirmation tone, baby listening is operated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Maid Status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ko-KR" sz="700" spc="-1" strike="noStrike">
                <a:solidFill>
                  <a:srgbClr val="000000"/>
                </a:solidFill>
                <a:latin typeface="돋움"/>
                <a:ea typeface="돋움"/>
              </a:rPr>
              <a:t>＊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The Maid can update the maid status of any room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ko-KR" sz="700" spc="-1" strike="noStrike">
                <a:solidFill>
                  <a:srgbClr val="000000"/>
                </a:solidFill>
                <a:latin typeface="Arial"/>
              </a:rPr>
              <a:t>To register “Cleaned” at a guest station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. (Program Access Cod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code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7 8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. (Confirmation tone is heard.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ko-KR" sz="700" spc="-1" strike="noStrike">
                <a:solidFill>
                  <a:srgbClr val="000000"/>
                </a:solidFill>
                <a:latin typeface="Arial"/>
              </a:rPr>
              <a:t>To register “Dirty” at a guest station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SLT PGM code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code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7 9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. (Confirmation tone is heard.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New Cabina Call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ko-KR" sz="700" spc="-1" strike="noStrike">
                <a:solidFill>
                  <a:srgbClr val="000000"/>
                </a:solidFill>
                <a:latin typeface="돋움"/>
                <a:ea typeface="돋움"/>
              </a:rPr>
              <a:t>＊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It allows to temporarily override toll restriction and make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a call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. (Program Access Cod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code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1 8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Enter the password (5 digits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Press hook switch. (Confirmation tone is heard.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Accessing CO line, dial tone will be heard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25040" y="7551720"/>
            <a:ext cx="2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25T10:29:19Z</dcterms:created>
  <dc:creator>황재희</dc:creator>
  <dc:description/>
  <dc:language>en-US</dc:language>
  <cp:lastModifiedBy>user</cp:lastModifiedBy>
  <cp:lastPrinted>2001-02-02T03:25:28Z</cp:lastPrinted>
  <dcterms:modified xsi:type="dcterms:W3CDTF">2001-02-08T10:49:45Z</dcterms:modified>
  <cp:revision>50</cp:revision>
  <dc:subject/>
  <dc:title>SLT Features</dc:title>
</cp:coreProperties>
</file>